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61027"/>
        <c:axId val="39020697"/>
      </c:barChart>
      <c:catAx>
        <c:axId val="80061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0697"/>
        <c:crosses val="autoZero"/>
        <c:auto val="1"/>
        <c:lblAlgn val="ctr"/>
        <c:lblOffset val="100"/>
        <c:noMultiLvlLbl val="0"/>
      </c:catAx>
      <c:valAx>
        <c:axId val="39020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61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B10-E8D8-423B-8088-5BD7A54C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0B9-8D98-4400-A240-3426F308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E08-3468-47F3-BACE-4E8FFE5A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F13-EF8E-44F0-9229-5244308B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A7D-8F2F-4139-8C80-66B81D9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D61-7587-4D83-9573-041B7CE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76F-383D-43C1-896F-1FFDA8C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DCD-4C07-4285-8ABB-8C417AF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C9D-88AF-4FE6-A715-77DB558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0EC-169D-4F60-9735-6C48A29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5F1-65B8-4BD1-9FF1-78633BF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8B4-DA81-4657-BBE6-7C07E5C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CE6B-D47C-41B3-BFDE-9F2A33840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