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97280"/>
        <c:axId val="1287490"/>
      </c:barChart>
      <c:catAx>
        <c:axId val="53197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7490"/>
        <c:crosses val="autoZero"/>
        <c:auto val="1"/>
        <c:lblAlgn val="ctr"/>
        <c:lblOffset val="100"/>
        <c:noMultiLvlLbl val="0"/>
      </c:catAx>
      <c:valAx>
        <c:axId val="1287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97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C08-ADB0-40FD-98EB-C435CB07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A07-9160-4B0C-BA3F-DC1A314D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1FB-5C9F-4264-87DA-4F9ACBC8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D82-C5B7-4AC0-B602-E6D51D84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6D0-1AD0-4D92-BAF7-141B4425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3D3-278B-492C-89D4-76580405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91E-2C69-4AB8-9AD5-C099BEE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B03-C728-424C-9012-B93069A0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766-EECD-4E0F-A295-3957C263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4D7-9A00-4E58-9091-E41C1952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1F0-6BA0-48FC-A40F-BF277015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306-44BB-4979-9593-55C96C1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78508-32D7-48F0-A437-00F8F24C6E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