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53310"/>
        <c:axId val="48828461"/>
      </c:barChart>
      <c:catAx>
        <c:axId val="74253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28461"/>
        <c:crosses val="autoZero"/>
        <c:auto val="1"/>
        <c:lblAlgn val="ctr"/>
        <c:lblOffset val="100"/>
        <c:noMultiLvlLbl val="0"/>
      </c:catAx>
      <c:valAx>
        <c:axId val="48828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53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478-C600-41EE-9C3A-7C9FCDE7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10C-6757-4CB0-BBA4-80F19489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404-95DF-4D8F-A915-187B44A0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113-D1A8-41F0-992B-D7E91195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2CD-3030-4502-9C2A-7C1B9B4D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E07-6A12-4753-8FEE-40425373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1B3-8D52-4581-8D9B-EF823E56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6AE1-4424-4C47-9E47-5FB47893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8B6-1C2E-4CA9-8AE7-A6D13B34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D72-CA08-4A8D-929A-64BA20E7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09A-5C5C-4DD3-AC90-CB9F0B4D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0F8-6FC7-4963-8542-61C53EE9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0CBBC-A71D-4112-AEFB-7FE0350886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