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20549"/>
        <c:axId val="3038958"/>
      </c:barChart>
      <c:catAx>
        <c:axId val="32020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8958"/>
        <c:crosses val="autoZero"/>
        <c:auto val="1"/>
        <c:lblAlgn val="ctr"/>
        <c:lblOffset val="100"/>
        <c:noMultiLvlLbl val="0"/>
      </c:catAx>
      <c:valAx>
        <c:axId val="3038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20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3245-6DCE-4064-B54B-6ABF982B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3DC-FA81-411D-AD4D-6EAEA501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458-6615-4A7C-B59A-CB5E7C0F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593-9D0D-4FC8-97D4-775BBDF5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1C9-3440-4A34-B20D-37B75FBE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426-1D0F-46F0-9B17-F5B0E252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B28-8365-40C9-B49A-385E7D3A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B32-1BF6-49E2-9B29-5D77ED62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F78-164D-4855-8429-AAFDFDA8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3A0-2C73-4007-8332-4EF54CEF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4F4-DCBD-4CC8-9164-678FD9E5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C99-9F58-437D-9728-E9CFAF6A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CB98A-A633-4F7B-8902-BFD2A7C205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