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15296"/>
        <c:axId val="5077440"/>
      </c:barChart>
      <c:catAx>
        <c:axId val="50615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7440"/>
        <c:crosses val="autoZero"/>
        <c:auto val="1"/>
        <c:lblAlgn val="ctr"/>
        <c:lblOffset val="100"/>
        <c:noMultiLvlLbl val="0"/>
      </c:catAx>
      <c:valAx>
        <c:axId val="5077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15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313-8D54-42AF-85B0-2118CFE5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915-766C-4839-AC5E-CEA36527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65C-F160-4B5A-AAB9-AE0BFD9F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9D3-2BD0-4CB6-B2CC-167FBBC2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861-F66D-4F3A-99DB-C60EF71A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D0F-03D2-4A1A-9F91-7E8F913C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A30-938B-470C-B5DC-F8A002F6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582-BF3A-462D-9619-51557E2D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A08-B86E-4E56-8EDB-A93C0CDC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451-3BBE-420B-9EEF-E05B7058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B8A-790C-4E79-A2BE-31C51C66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139-3B3E-4425-B2DD-4681DFB2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5C301-09FA-4C66-9702-21F0F165C5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