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34394"/>
        <c:axId val="89151973"/>
      </c:barChart>
      <c:catAx>
        <c:axId val="82534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51973"/>
        <c:crosses val="autoZero"/>
        <c:auto val="1"/>
        <c:lblAlgn val="ctr"/>
        <c:lblOffset val="100"/>
        <c:noMultiLvlLbl val="0"/>
      </c:catAx>
      <c:valAx>
        <c:axId val="89151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34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D3B-C109-4214-A247-1B1B28E78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F05C-2E14-49B9-8E73-A2B6178AB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D86-D64C-4F19-B279-C7E70434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8F1-9540-436D-AA67-452CD8E5C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FDF-0DE5-49F0-A65A-659D4A05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C36-9D08-4D37-ACB3-ED6DF172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5D99-E37A-4A78-A1EF-2BD9619C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A4A6-85F0-4BFD-B205-BDD075B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45CC-F758-4247-8117-89FFF411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6AC-F412-4605-A85C-08F09CD3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ABA-85E2-4A3C-AEE3-CD5555F3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497-4A07-4AD0-9E51-D4C271AD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31600-2BBD-4633-AEB0-23B411697C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