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15639"/>
        <c:axId val="27028796"/>
      </c:barChart>
      <c:catAx>
        <c:axId val="43915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8796"/>
        <c:crosses val="autoZero"/>
        <c:auto val="1"/>
        <c:lblAlgn val="ctr"/>
        <c:lblOffset val="100"/>
        <c:noMultiLvlLbl val="0"/>
      </c:catAx>
      <c:valAx>
        <c:axId val="27028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5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857-4E8A-4F29-82D7-7F446C84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D54-C820-4719-85A2-F31EC2FD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D40-37C3-44CB-AF15-6727F04C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043-8825-4282-B187-9BF29310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B9F-4DAF-4497-84D1-7FD14A6E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547-B89B-40DA-BE23-D8810A69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F1F-68FE-4AF6-BBC9-81919AB4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593-A7A9-47E9-BCD0-9F264E37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E03-114F-448C-A911-ED7E9EB0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231-E749-44D6-90A5-0D015D1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5EE-1B86-4974-8EDA-A6ACA27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94C-C2C6-476D-8D09-8F27EEF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80FE2-FFB3-40E6-B417-AC3B73948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