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182594"/>
        <c:axId val="39156584"/>
      </c:barChart>
      <c:catAx>
        <c:axId val="531825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56584"/>
        <c:crosses val="autoZero"/>
        <c:auto val="1"/>
        <c:lblAlgn val="ctr"/>
        <c:lblOffset val="100"/>
        <c:noMultiLvlLbl val="0"/>
      </c:catAx>
      <c:valAx>
        <c:axId val="391565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825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318E-2D40-45FE-8158-D927352AD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407B-9508-499A-8E5D-4FBD69DE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2DD9-3DEF-411A-85F7-FB4D80AB0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50C2-C8BC-48D8-A0AD-77411EB53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6197-C97B-41FD-960B-A04364D6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F26F-45C1-4551-911E-92826B2A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8610-403C-4A2F-BEE2-B5A4FCB1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E9E7-3EFF-4418-96AA-C5E8CE60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92AF-6FB2-4DD3-A085-C4407EEC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D6A3-5C89-42E6-8387-C1BEBCEA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FD12-1EA3-48D6-94E7-4EB453F7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6206-BE65-467C-A5EC-3840D18A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1C086-2B44-41EE-A1BB-B20E1879B8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