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90863"/>
        <c:axId val="92452944"/>
      </c:barChart>
      <c:catAx>
        <c:axId val="61690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52944"/>
        <c:crosses val="autoZero"/>
        <c:auto val="1"/>
        <c:lblAlgn val="ctr"/>
        <c:lblOffset val="100"/>
        <c:noMultiLvlLbl val="0"/>
      </c:catAx>
      <c:valAx>
        <c:axId val="92452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0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59E-4EDE-49A9-A5CC-D1FB9ECA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92F-DBDB-4E1A-8756-5F82796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F25-3259-4C93-B8B1-694C0CD1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E8F-A887-403A-9039-F163F8A2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E58-3394-4510-B011-222DD1E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670-B640-43F7-8F75-0C68A860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B6A-5558-428E-BF4A-E7CC247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5C7-BBE2-4A65-A69B-A0405F12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697-268F-489D-8B37-9F4C3C81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295-5B99-41A0-A1A7-63D0777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6E3-869C-4E75-8E4D-3C58A3A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E3C-8CAD-4445-9BED-E266D94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70D4C-228E-4A1A-975A-5E6BA4FA5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