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83978"/>
        <c:axId val="18888736"/>
      </c:barChart>
      <c:catAx>
        <c:axId val="70983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8736"/>
        <c:crosses val="autoZero"/>
        <c:auto val="1"/>
        <c:lblAlgn val="ctr"/>
        <c:lblOffset val="100"/>
        <c:noMultiLvlLbl val="0"/>
      </c:catAx>
      <c:valAx>
        <c:axId val="18888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83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BEB-AE04-4323-A787-04F2FE26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577-7B24-49BB-8347-6A5A5C2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527-6E49-48A0-9201-13CBAF8B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E0D-644C-4BA7-AAEC-615D49F7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781-EAEC-4C69-BA99-C0D1EE76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A87-2018-4FC8-8EDB-3F471C4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D93-3620-487B-936E-B07AEDB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C86-EFF1-4957-BEDD-AD0DDB1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651-8176-4843-8336-A5B1ADB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6B9-1A74-4B55-97F0-DB567DB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E2D-96A3-4A59-9C6E-9FB8E0C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3C5-A904-4575-9500-9610B66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B147-1A34-43F2-AC75-5169C84BA6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