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2152"/>
        <c:axId val="62145712"/>
      </c:barChart>
      <c:catAx>
        <c:axId val="96421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45712"/>
        <c:crosses val="autoZero"/>
        <c:auto val="1"/>
        <c:lblAlgn val="ctr"/>
        <c:lblOffset val="100"/>
        <c:noMultiLvlLbl val="0"/>
      </c:catAx>
      <c:valAx>
        <c:axId val="621457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21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C99B-9B76-4E88-99CF-A4B8EF60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49AD-279B-488D-948C-64740F36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E4D3-D565-4C30-8436-B6E4E8FF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7C2-F4C2-44C5-B905-2FE25FAD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260-5746-4F69-83A1-75BF3581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0B0E-7988-4420-8D13-B740FEFE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59C-5B3A-42BB-9932-857942E9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6937-3D27-4EAF-94FE-31693468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9DF-0DC3-4B08-9C49-0745CFC4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E95-3AEF-4AD6-8146-9BCA75C6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84D-5F36-466C-8248-D1D4E4A0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BBB-2AE8-4A30-BF50-35F9E13F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FEBFA-45BB-4FDF-8995-E2869B798A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