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1530"/>
        <c:axId val="450137"/>
      </c:barChart>
      <c:catAx>
        <c:axId val="87521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37"/>
        <c:crosses val="autoZero"/>
        <c:auto val="1"/>
        <c:lblAlgn val="ctr"/>
        <c:lblOffset val="100"/>
        <c:noMultiLvlLbl val="0"/>
      </c:catAx>
      <c:valAx>
        <c:axId val="450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1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DA2-4253-47BD-AAE4-79330BC8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81D-AD94-44B5-AFB2-A4B4DDB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703-50C9-4E53-89DF-3883BD2C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0F1-E4B9-4BAB-8BA8-C19D22E1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FB7-4547-4D71-99F9-25F11BA3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F06-878B-4D0D-93FB-E23956B4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E67-657B-430D-BD86-125D4C5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CFC-F938-484F-A8F6-BBF70DEC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266-F42D-4ADC-B860-137639B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D3F-5C9A-4C8A-9AF7-D8F9336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3B7-1F5C-4B48-9830-6ED5B9C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8DB-1252-4186-9A56-0AAE7EF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8583-CDB0-43CC-9C5A-6E6E68012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