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23757"/>
        <c:axId val="56855610"/>
      </c:barChart>
      <c:catAx>
        <c:axId val="54023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55610"/>
        <c:crosses val="autoZero"/>
        <c:auto val="1"/>
        <c:lblAlgn val="ctr"/>
        <c:lblOffset val="100"/>
        <c:noMultiLvlLbl val="0"/>
      </c:catAx>
      <c:valAx>
        <c:axId val="56855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23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294-AFF6-467E-9055-1B276630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45A-9C27-4711-96A6-D2FEECDD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289-B685-4DA0-9A1A-31F809B4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B8D-DA0D-4A26-9875-0E412BEC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E67-DF59-4CD2-88C5-174FC507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269-0184-4C89-837E-CC17B97E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795-925B-4C3E-89EB-613EB027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1D2-0B40-4B9E-8B65-3E765FC0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47A-1722-4421-8109-F507F6AC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3E6-B2B0-40CF-9F79-AFD65A44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1B2-363F-405B-BACA-2DF73B6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402-A002-4804-ACD9-FE697384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6E5EC-0367-4EC7-BA3F-CE5C4C95BB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