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21115"/>
        <c:axId val="19809187"/>
      </c:barChart>
      <c:catAx>
        <c:axId val="45921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09187"/>
        <c:crosses val="autoZero"/>
        <c:auto val="1"/>
        <c:lblAlgn val="ctr"/>
        <c:lblOffset val="100"/>
        <c:noMultiLvlLbl val="0"/>
      </c:catAx>
      <c:valAx>
        <c:axId val="19809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21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B62-AEEC-47FC-92E5-37643F7A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FF2-671B-492A-95D8-58A5A77B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ECF-4518-45D3-AFB4-0975DACF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3FE-5A30-451D-A1AE-B2FBB7D1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03B9-199A-40CC-97C8-5BD5880A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2C5-92F7-41F2-975D-5FB34112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E50-FECB-4A3E-B76E-8F93E4C0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086-6EBD-463B-9BB6-31DEB932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8A1-92D5-498D-ACE3-64EEA4C8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143-B5AA-4E6C-81B1-3599DDFF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A81-AB8E-4228-8206-2F4BBE1C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F45-7CF7-41A6-85D7-D9DAE1F9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6EE64-B721-470E-B7EB-B3F93C0183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