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9192"/>
        <c:axId val="19635089"/>
      </c:barChart>
      <c:catAx>
        <c:axId val="2749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35089"/>
        <c:crosses val="autoZero"/>
        <c:auto val="1"/>
        <c:lblAlgn val="ctr"/>
        <c:lblOffset val="100"/>
        <c:noMultiLvlLbl val="0"/>
      </c:catAx>
      <c:valAx>
        <c:axId val="19635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9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485-BE6B-4187-B3B8-25FBA86C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4B3-8C45-452F-95DB-ED9BDD44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30D-234A-4A38-9B73-38039D75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87D-ACEF-44CF-8E0B-95329F29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477-6C46-4ECE-96D8-4523BBB4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1CC-15FE-44C9-8715-C97AF6BC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0F4-E4D4-4BFC-83A2-D8ED8C8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A49-3F59-4FE9-9006-BB7176FB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693-C9EC-4AB5-8C9D-07440053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EF1-57CD-4FDA-8E11-F6480F5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46D-5B05-4DA4-8CFC-CB7B1B5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9C4-072F-48CD-9CD3-139915FD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17209-E92D-43B3-BAC0-6EC30D6815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