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47697-AF19-4967-B6A3-5A92D4D86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068A-A4B1-4D6A-84EC-77B21644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054B0-0C9F-4540-A3B6-E9C7FF6B8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C06AE3-CFE2-42C2-AD07-B4D41E221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400D98-1C58-45AB-A334-8A0B5FEB8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16F781-4E7E-4C96-9712-3147BF5C8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2E9F41-1B39-411C-81D4-EA50A2F19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026702-1508-4F02-B416-6D7D9A063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7DD2BF-33E7-48A1-95E9-79178FD02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1C1A6F3-9188-4F4D-B748-6805E95CD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326F51-80C8-4315-AEA7-E7ABC83CF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F06E51-AAD6-4520-A8F0-482A72BC7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576ED-3A30-477A-9ABC-85F6ECAF1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514E59B-C0BC-4FB5-BA72-79B129450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DD5A5A-1732-4EE6-A05D-82D6091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5840BF-041A-4F12-BA9C-73A12B8F0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E84F21-ADD9-427A-B3BD-56954AEF1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AE6904-2A5F-4664-B37A-557C40C3F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BA7E45-F105-48C4-A22B-2F1B36586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255363-D7CF-49DE-ABF7-BD912745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F11E82-17A0-427F-9BA8-63DE16837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14EDD-06F0-4810-9824-93E584B6C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5AF151-58CC-4499-A1DA-BE5705A6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A18D-2AEC-421F-A031-B65BD9474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E763227-1E35-48CE-B5D4-C4F0BCDB4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6852BC-BD87-474C-A642-3C081E13F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AE7ADE-4A4B-41E4-B155-15735AC0E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4559A-F682-4043-9567-094F7954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421CCB-08F4-4AC5-A012-2CF0C2AA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0C8AC8-9EA4-49B4-8C4F-F7A6F02C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8ADA29-7FD8-4632-A916-5DEE2AD6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47A40-EA49-45B9-B229-8B42B2CB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1B4EA05-9F1A-4B49-B062-FFD3700E8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0647AB-1C3B-4925-AB01-0CDF284C9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A5BE-F7CF-4FE5-A9C5-531792E66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E91042-EA60-477B-AB1A-BCE73EC57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2B490F-159B-4C90-A8E5-1AED8DF66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CFD9B-085D-4EB1-AEC5-37623841F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1735B1-C055-4E39-AD39-0C0A300F6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891009-A0E1-4AD5-8DBA-F5BF5B1B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49155C-04CD-4711-8F69-59121FC6F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D61D9F-6B99-48B8-B7C0-C477DA6B8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136019-B986-43C9-8934-857C0F7B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E11E61-5102-4014-A56F-70B3F89CB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1D425-77A0-40E3-83D8-D4152FD72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0FA14-0B39-461D-A4AA-D15250EF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30CA42-637D-4B97-BC09-91A3B36E8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5D773E-938C-4791-8E78-561C68E2E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D7E1B5-A1A9-481C-B4BD-3DB22A9D5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36E7D1-ABEB-4447-8B8E-9DACD1916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8919A7-71AC-48CB-92F3-26A73BFA8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5C45F-1F4C-4A71-87C0-4853BDD4F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63CD-54E7-4B0E-9BB2-55F90E7B9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CF506-312D-42B3-9319-FA273F31EB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55D11-14B9-4ED1-93EF-075112CD8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4CF3-9AF0-44CB-9A0A-2C34EED9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D4F1-0342-4FB2-B686-D371D6D49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C0BEF-547C-4824-80C4-13BE66CE1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2985F-C4EE-44BA-898E-329C9F250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81048-BAAE-461D-A5D0-A4F6867D2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51374-5980-42EC-BFFE-D0FEA2656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AA69B-C7B1-4FD8-ACFB-37260015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73DE8C-C548-4D84-BAF1-A51744944E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61DB5-FA0F-42F5-B701-5D73CF33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0D4BE-4FBC-42EC-948D-078666C32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4D74DA-15D9-4F3F-8A98-6605E10F9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88F518-5131-4D76-8D1C-9F0E73638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A671-5F59-442B-B33A-D935099BD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1C2D20-EEE5-4DE6-813A-0227E2DC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BEEC37-5170-4AFE-8509-D468C4F07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83BB6-8B8C-4560-985C-44D59FDCD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0F7A1A-A39B-40C6-8D89-BCB5E9BEB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7ABC7E-EC88-449E-9AE3-51722920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397C7-5EE2-4251-9260-FB7E6EA37F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263EE-F037-4F74-9AAA-197BF4F8C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8CEBFA-8ED1-472D-B8F8-2C8F35F11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420CAB-E38A-4F85-9941-080CAA062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E096F-CC31-4ED7-9994-ABA7ADE51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AE252-CFB2-42B1-8B0E-B29510492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7E5E7-55C0-443C-B858-355055FA7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9563B2-BE61-4CE7-9B14-6C45B8A5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2128E-739D-4A57-96EA-26BFA964C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474765-8773-4833-B584-BB5A26FC0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F00034-6138-42B7-A42E-671753A7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80030D-AE16-4D74-A729-E7404CA86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6CA3F-0CA1-4196-9C5F-E2AFE06B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C6A4E-E523-4DA5-AB31-DB0E1A2951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E4F19-35A8-4855-9D45-A20E22E4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5EA927-8AAA-4C78-B423-C2FDF086D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225D9-7CEF-48F1-A4A4-197D11D4D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9962A-8DFE-44CC-8746-AC4F5962B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91A48-DCD3-4D40-9D58-7E6D87A47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314E1-BC5D-4FDB-B4CB-F5E2181E7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1A45E5-4AB5-4513-B060-A24A24EEA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D95CB8-C8F4-493A-B9AC-1E30C896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DBC2D7-8E4E-4158-BC50-3F1ADC88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8749C9-906A-47F5-ACE7-743A5EC0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FF4200-8931-401C-8B35-3EB0F29DD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04A2ED-3EF6-46EF-9FC3-5B55D020A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643D9-75FB-4DBF-ABD4-7612963CB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F396-FBCE-45CC-863F-D1F9B6B65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1CEA2F-6DA7-440E-B97C-5FFC661A5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4F82F1-7358-4113-B74E-7BBE8DE48C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9B9B52-FD5F-494F-923A-9F539B945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45937-092A-4FEA-BBE4-97F5435B5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DD0E11-FECB-4870-8C0E-B3E7BBC5C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205370-FA9A-47D4-A12E-635DB8759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D2E0E-1E81-4F9E-86FE-666BD88EA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E34C8F-1D7B-499E-AE46-F2060D209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17A242-DE0A-448A-9B97-30B5DA7D4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8DFAEA-E537-40FA-B219-408FCE81D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A3F0-681E-4DBE-9F1D-3B833F0D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0A6031-6EE1-4739-9376-7C2D44B5C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B96F33-EE69-43B3-85A4-6DD527F30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B45EF3-FE7C-4D99-9D17-ED45DAA80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EE081A-64CB-4237-9E4A-651FB01D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092F92-294D-45C5-9D33-C970A1524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E45F49-CD47-4BE7-82DA-6B95982E8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2F476-7B84-43F3-9045-D89866FF4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95A786-EBDA-4764-903C-2B2472109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C09C6A-0E8C-4303-B7C8-EFC2399B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1EFB7C-9B25-4B48-9F0C-E3DBCB71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9C6E-1371-4A47-9681-7AC553F09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5AB750-9681-4E24-A3CF-6473CA2C6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6C20-E982-4E62-82EB-562718571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826B4-825B-4D97-A546-759866032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0E4757-798A-4881-8CDA-16EABD071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742142-18C0-4285-AA11-B4D612E3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62D698-B64E-46AD-9C32-1C36D5524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90D467-80F5-4B5C-8DF9-97B973F30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A811D9-6433-4B82-981C-70A8A8C29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E6682-3781-4754-A043-63E3F0A4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A764A-452B-4EB5-B23D-B811B6BAE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641F-7C82-44F3-A5AD-90FD9CA86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2DC6B3-66CD-4C78-ADF9-1DEA8B70B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E3C818-D87D-45A6-8349-CD6876E00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9D4398-53CB-4D65-8A22-BCEA9E7F8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5694C9-FD4B-4F43-84F9-5500972DD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831118-0077-489A-87BF-1C4468A56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71C824-CA56-4099-882C-F64ED45B7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FD4CD7-50FD-4645-AF7F-C79ABAE36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2BAF31-3781-4377-B49B-E60D48359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5EDD9C-3FA6-4436-908C-44E946208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3C3BAA-DBAD-4A32-8D7B-73B3F5EB3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F1A26-3A53-4D03-A380-9AB17DCF40A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556F3-BF4F-4E22-A356-2821F5C6C1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7365F-66E9-45CB-9F72-F00B59AA62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11485-A5B4-450D-B9BE-5BFE9A2926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A57A0-62CA-4E1E-B6AD-968E8B75D5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B6775-BC9E-471F-8F9A-AFEBBFE10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057B3-1ECA-4E65-8658-151016706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0489-9F0F-4E04-A9E5-B6B4A38382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A646D-CD3A-4DBC-A942-F7061AE6D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6C33E-3F67-47D0-A404-E0F9F5B3C3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1A5E5-906A-4CE3-A6A9-F3D670A55E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1F40-99B9-4544-93CC-C7F150B498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8" descr=""/>
          <p:cNvPicPr/>
          <p:nvPr/>
        </p:nvPicPr>
        <p:blipFill>
          <a:blip r:embed="rId1"/>
          <a:stretch/>
        </p:blipFill>
        <p:spPr>
          <a:xfrm>
            <a:off x="-1111320" y="-804960"/>
            <a:ext cx="10953720" cy="846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1T18:47:09Z</dcterms:created>
  <dc:creator>user</dc:creator>
  <dc:description/>
  <dc:language>en-US</dc:language>
  <cp:lastModifiedBy>Administrator</cp:lastModifiedBy>
  <dcterms:modified xsi:type="dcterms:W3CDTF">2023-10-11T12:09:54Z</dcterms:modified>
  <cp:revision>2</cp:revision>
  <dc:subject/>
  <dc:title>Slide 1</dc:title>
</cp:coreProperties>
</file>