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E7725-ACBB-47FB-8C90-54B4FF4BDD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0A91-99CD-42F9-AA44-4B1C6FBA9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DF1E-14C3-47A0-8FAB-BBCADC73D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5287A-DBCA-49F4-9599-D517A3544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094F3-CF2D-4CB5-80A3-2C6F42ED5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B573-60BA-45A3-98E5-484EC16B2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3322-5F49-463A-ADA4-CDE1DE805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09D0-018D-4351-BD9E-15284AD84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2FE-BD81-4443-8170-B707F7C69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EDE39-B062-4482-A8D8-EC290561E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0000-03C3-41FD-8434-19A6C1CE0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827-4D04-412A-8F9D-B9AD9C0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8ECEE-F2E4-4F74-BDA9-CEA1A11952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1"/>
          <p:cNvGrpSpPr/>
          <p:nvPr/>
        </p:nvGrpSpPr>
        <p:grpSpPr>
          <a:xfrm>
            <a:off x="4038480" y="1447560"/>
            <a:ext cx="3108600" cy="2803680"/>
            <a:chOff x="4038480" y="1447560"/>
            <a:chExt cx="3108600" cy="2803680"/>
          </a:xfrm>
        </p:grpSpPr>
        <p:sp>
          <p:nvSpPr>
            <p:cNvPr id="42" name="PyramidChart 1;Item 4"/>
            <p:cNvSpPr/>
            <p:nvPr/>
          </p:nvSpPr>
          <p:spPr>
            <a:xfrm flipV="1">
              <a:off x="4038480" y="3551400"/>
              <a:ext cx="3108600" cy="699840"/>
            </a:xfrm>
            <a:prstGeom prst="pie">
              <a:avLst/>
            </a:prstGeom>
            <a:solidFill>
              <a:srgbClr val="e7e6e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4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" name="PyramidChart 1;Item 3"/>
            <p:cNvSpPr/>
            <p:nvPr/>
          </p:nvSpPr>
          <p:spPr>
            <a:xfrm flipV="1">
              <a:off x="4427640" y="2849400"/>
              <a:ext cx="2330280" cy="702000"/>
            </a:xfrm>
            <a:prstGeom prst="pi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Text 3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4" name="PyramidChart 1;Item 2"/>
            <p:cNvSpPr/>
            <p:nvPr/>
          </p:nvSpPr>
          <p:spPr>
            <a:xfrm flipV="1">
              <a:off x="4815000" y="2149560"/>
              <a:ext cx="1552320" cy="698400"/>
            </a:xfrm>
            <a:prstGeom prst="pie">
              <a:avLst/>
            </a:prstGeom>
            <a:solidFill>
              <a:srgbClr val="ed7d3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PyramidChart 1;Item 1"/>
            <p:cNvSpPr/>
            <p:nvPr/>
          </p:nvSpPr>
          <p:spPr>
            <a:xfrm flipV="1">
              <a:off x="5203800" y="1447200"/>
              <a:ext cx="777960" cy="701640"/>
            </a:xfrm>
            <a:prstGeom prst="pie">
              <a:avLst/>
            </a:prstGeom>
            <a:solidFill>
              <a:srgbClr val="5b9bd5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2-15T14:43:47Z</dcterms:created>
  <dc:creator/>
  <dc:description/>
  <dc:language>en-US</dc:language>
  <cp:lastModifiedBy/>
  <dcterms:modified xsi:type="dcterms:W3CDTF">2025-02-15T14:45:58Z</dcterms:modified>
  <cp:revision>1</cp:revision>
  <dc:subject/>
  <dc:title/>
</cp:coreProperties>
</file>