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C811-B484-46FF-9089-3D4DC4B88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7470-8BC6-48AB-B612-D5DFA92F1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2776-D4F5-44EC-BD2E-B6F8D1C1D8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D6D7-0B27-4652-BF52-EA39B19FE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F879C-D351-4F80-8F72-0FF89504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EF4F-49E5-4691-9E3A-7AE169615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DDBA-EF6F-4E2E-AA74-794C5B9D7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A597C-B957-4264-9929-1588B95DA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17AB-26B9-48CC-A183-79FDD099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7347D-E91F-4FD2-ABFA-AA542552C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D0AB-290C-429C-8C34-D225C780E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7094-541A-45E9-9C16-D1314D943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3307-EC6D-4F6F-B861-1866EFCA85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333360"/>
            <a:ext cx="8496000" cy="612000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1413000"/>
            <a:ext cx="5616720" cy="39607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30T08:34:57Z</dcterms:created>
  <dc:creator>Ученик</dc:creator>
  <dc:description/>
  <dc:language>en-US</dc:language>
  <cp:lastModifiedBy>Ученик</cp:lastModifiedBy>
  <dcterms:modified xsi:type="dcterms:W3CDTF">2012-03-30T08:43:44Z</dcterms:modified>
  <cp:revision>4</cp:revision>
  <dc:subject/>
  <dc:title>Слайд 1</dc:title>
</cp:coreProperties>
</file>