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3C46B-FDCE-493B-A8E5-E01ADE9D5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4B491-68E6-4D9A-B3F6-9792183A5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4F55C-84F1-410A-BFE2-574BA288B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C12E-907A-4927-8B99-4DF762E5B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7B44E-F6A8-4AE7-9ED3-316EDCC009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FD261-D21E-4E04-A617-B7EAF34D5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DB667-B6DB-491E-90A5-C99294623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C8E5F-EC24-4FB6-92B5-6571C6EC5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C6AA-EE3C-4273-854F-0302F3115F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0E4E2-D03F-4FF0-B4CA-2C166D248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2366-979C-4CA4-BF56-6451D62DB3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C5602-6DD2-4982-A615-5374B12C2B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8E5CC1-A454-4FAA-9C89-7F428E67198F}" type="slidenum">
              <a:rPr b="0" lang="de-DE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down"/>
          <p:cNvSpPr/>
          <p:nvPr/>
        </p:nvSpPr>
        <p:spPr>
          <a:xfrm>
            <a:off x="250920" y="549360"/>
            <a:ext cx="3600360" cy="2158920"/>
          </a:xfrm>
          <a:custGeom>
            <a:avLst/>
            <a:gdLst>
              <a:gd name="textAreaLeft" fmla="*/ 619200 w 3600360"/>
              <a:gd name="textAreaRight" fmla="*/ 2583000 w 3600360"/>
              <a:gd name="textAreaTop" fmla="*/ 289080 h 2158920"/>
              <a:gd name="textAreaBottom" fmla="*/ 186984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430" hR="21600" stAng="10800000" swAng="5400000"/>
                <a:lnTo>
                  <a:pt x="11782" y="0"/>
                </a:lnTo>
                <a:arcTo wR="7430" hR="21600" stAng="-5400000" swAng="2640394"/>
                <a:lnTo>
                  <a:pt x="21169" y="14354"/>
                </a:lnTo>
                <a:lnTo>
                  <a:pt x="17035" y="21600"/>
                </a:lnTo>
                <a:lnTo>
                  <a:pt x="12039" y="14354"/>
                </a:lnTo>
                <a:lnTo>
                  <a:pt x="14428" y="14354"/>
                </a:lnTo>
                <a:arcTo wR="7430" hR="21600" stAng="-2759606" swAng="-2279521"/>
                <a:lnTo>
                  <a:pt x="9606" y="947"/>
                </a:lnTo>
                <a:arcTo wR="7430" hR="21600" stAng="-5760873" swAng="-5039127"/>
                <a:close/>
              </a:path>
              <a:path fill="darkenLess" w="21600" h="21600">
                <a:moveTo>
                  <a:pt x="0" y="21600"/>
                </a:moveTo>
                <a:arcTo wR="7430" hR="21600" stAng="10800000" swAng="5400000"/>
                <a:lnTo>
                  <a:pt x="7430" y="0"/>
                </a:lnTo>
                <a:arcTo wR="7430" hR="21600" stAng="-5400000" swAng="360873"/>
                <a:lnTo>
                  <a:pt x="9606" y="947"/>
                </a:lnTo>
                <a:arcTo wR="7430" hR="21600" stAng="-5760873" swAng="-5039127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up"/>
          <p:cNvSpPr/>
          <p:nvPr/>
        </p:nvSpPr>
        <p:spPr>
          <a:xfrm>
            <a:off x="262080" y="4149720"/>
            <a:ext cx="3598560" cy="2160720"/>
          </a:xfrm>
          <a:custGeom>
            <a:avLst/>
            <a:gdLst>
              <a:gd name="textAreaLeft" fmla="*/ 604080 w 3598560"/>
              <a:gd name="textAreaRight" fmla="*/ 2517120 w 3598560"/>
              <a:gd name="textAreaTop" fmla="*/ 289440 h 2160720"/>
              <a:gd name="textAreaBottom" fmla="*/ 1871280 h 216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-2611774"/>
                <a:lnTo>
                  <a:pt x="21185" y="7200"/>
                </a:lnTo>
                <a:lnTo>
                  <a:pt x="16622" y="0"/>
                </a:lnTo>
                <a:lnTo>
                  <a:pt x="11229" y="7200"/>
                </a:lnTo>
                <a:lnTo>
                  <a:pt x="14094" y="7200"/>
                </a:lnTo>
                <a:arcTo wR="7255" hR="21600" stAng="2788226" swAng="2261455"/>
                <a:lnTo>
                  <a:pt x="9368" y="20663"/>
                </a:lnTo>
                <a:arcTo wR="7255" hR="21600" stAng="5750319" swAng="5049681"/>
                <a:close/>
              </a:path>
              <a:path fill="darkenLess" w="21600" h="21600">
                <a:moveTo>
                  <a:pt x="0" y="0"/>
                </a:moveTo>
                <a:arcTo wR="7255" hR="21600" stAng="10800000" swAng="-5400000"/>
                <a:lnTo>
                  <a:pt x="11481" y="21600"/>
                </a:lnTo>
                <a:arcTo wR="7255" hR="21600" stAng="5400000" swAng="350319"/>
                <a:lnTo>
                  <a:pt x="9368" y="20663"/>
                </a:lnTo>
                <a:arcTo wR="7255" hR="21600" stAng="5750319" swAng="5049681"/>
                <a:close/>
              </a:path>
            </a:pathLst>
          </a:custGeom>
          <a:solidFill>
            <a:srgbClr val="ffc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right"/>
          <p:cNvSpPr/>
          <p:nvPr/>
        </p:nvSpPr>
        <p:spPr>
          <a:xfrm>
            <a:off x="5292720" y="547560"/>
            <a:ext cx="3600360" cy="2160720"/>
          </a:xfrm>
          <a:custGeom>
            <a:avLst/>
            <a:gdLst>
              <a:gd name="textAreaLeft" fmla="*/ 482040 w 3600360"/>
              <a:gd name="textAreaRight" fmla="*/ 3118320 w 3600360"/>
              <a:gd name="textAreaTop" fmla="*/ 313200 h 2160720"/>
              <a:gd name="textAreaBottom" fmla="*/ 1674000 h 216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6266" stAng="-5400000" swAng="-5400000"/>
                <a:lnTo>
                  <a:pt x="0" y="13602"/>
                </a:lnTo>
                <a:arcTo wR="21600" hR="6266" stAng="10800000" swAng="-3292068"/>
                <a:lnTo>
                  <a:pt x="17280" y="21473"/>
                </a:lnTo>
                <a:lnTo>
                  <a:pt x="21600" y="16200"/>
                </a:lnTo>
                <a:lnTo>
                  <a:pt x="17280" y="10673"/>
                </a:lnTo>
                <a:lnTo>
                  <a:pt x="17280" y="12405"/>
                </a:lnTo>
                <a:arcTo wR="21600" hR="6266" stAng="7507932" swAng="2582286"/>
                <a:lnTo>
                  <a:pt x="4088" y="9934"/>
                </a:lnTo>
                <a:arcTo wR="21600" hR="6266" stAng="-10090218" swAng="4690218"/>
                <a:close/>
              </a:path>
              <a:path fill="darkenLess" w="21600" h="21600">
                <a:moveTo>
                  <a:pt x="21600" y="0"/>
                </a:moveTo>
                <a:arcTo wR="21600" hR="6266" stAng="-5400000" swAng="-5400000"/>
                <a:lnTo>
                  <a:pt x="0" y="6266"/>
                </a:lnTo>
                <a:arcTo wR="21600" hR="6266" stAng="10800000" swAng="-709782"/>
                <a:lnTo>
                  <a:pt x="4088" y="9934"/>
                </a:lnTo>
                <a:arcTo wR="21600" hR="6266" stAng="-10090218" swAng="4690218"/>
                <a:close/>
              </a:path>
            </a:pathLst>
          </a:cu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left"/>
          <p:cNvSpPr/>
          <p:nvPr/>
        </p:nvSpPr>
        <p:spPr>
          <a:xfrm>
            <a:off x="5278320" y="4149720"/>
            <a:ext cx="3600720" cy="2158920"/>
          </a:xfrm>
          <a:custGeom>
            <a:avLst/>
            <a:gdLst>
              <a:gd name="textAreaLeft" fmla="*/ 482400 w 3600720"/>
              <a:gd name="textAreaRight" fmla="*/ 3118320 w 3600720"/>
              <a:gd name="textAreaTop" fmla="*/ 312840 h 2158920"/>
              <a:gd name="textAreaBottom" fmla="*/ 1672920 h 2158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3292068"/>
                <a:lnTo>
                  <a:pt x="4320" y="21473"/>
                </a:lnTo>
                <a:lnTo>
                  <a:pt x="0" y="16200"/>
                </a:lnTo>
                <a:lnTo>
                  <a:pt x="4320" y="10673"/>
                </a:lnTo>
                <a:lnTo>
                  <a:pt x="4320" y="12405"/>
                </a:lnTo>
                <a:arcTo wR="21600" hR="6266" stAng="3292068" swAng="-2582286"/>
                <a:lnTo>
                  <a:pt x="17512" y="9934"/>
                </a:lnTo>
                <a:arcTo wR="21600" hR="6266" stAng="-709782" swAng="-4690218"/>
                <a:close/>
              </a:path>
              <a:path fill="darkenLess" w="21600" h="21600">
                <a:moveTo>
                  <a:pt x="0" y="0"/>
                </a:moveTo>
                <a:arcTo wR="21600" hR="6266" stAng="-5400000" swAng="5400000"/>
                <a:lnTo>
                  <a:pt x="21600" y="13602"/>
                </a:lnTo>
                <a:arcTo wR="21600" hR="6266" stAng="0" swAng="-709782"/>
                <a:lnTo>
                  <a:pt x="17512" y="9934"/>
                </a:lnTo>
                <a:arcTo wR="21600" hR="6266" stAng="-709782" swAng="-4690218"/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4-20T19:10:52Z</dcterms:created>
  <dc:creator>Regina Henschel</dc:creator>
  <dc:description/>
  <dc:language>en-US</dc:language>
  <cp:lastModifiedBy>Regina Henschel</cp:lastModifiedBy>
  <dcterms:modified xsi:type="dcterms:W3CDTF">2022-04-28T17:22:05Z</dcterms:modified>
  <cp:revision>4</cp:revision>
  <dc:subject/>
  <dc:title>Kein Folientitel</dc:title>
</cp:coreProperties>
</file>