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0ED57-0A9B-464D-B488-4847BE15D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B265-2C16-4583-8F71-08A2388E6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F9803-ECAB-4BC4-A47A-277A42DD14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6D0C69-95DA-4924-A507-4C36EC56B5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C25EF-E2AA-40A7-901A-4767395207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28F26-14F6-432C-8A37-AD17A8E5B1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FB2F7-9271-4591-B0FD-8F583EB348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D98D-7D72-49A1-A3E4-9861040B8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4FFD2-3A59-407F-916E-2C6C799D3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85130-0906-4A86-9155-B84BBC83E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60DC7-3BF2-4573-8722-E43C94EE2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6E83A-D1A2-42F6-A142-E174CD58E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CE0BD-75B0-4AC4-B6E7-B84128163F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19280" y="719280"/>
            <a:ext cx="2879640" cy="2879640"/>
          </a:xfrm>
          <a:prstGeom prst="star5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556400" y="3238560"/>
            <a:ext cx="360360" cy="360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3" name=""/>
          <p:cNvCxnSpPr>
            <a:stCxn id="42" idx="0"/>
            <a:endCxn id="41" idx="0"/>
          </p:cNvCxnSpPr>
          <p:nvPr/>
        </p:nvCxnSpPr>
        <p:spPr>
          <a:xfrm flipV="1" rot="16200000">
            <a:off x="4070160" y="-428040"/>
            <a:ext cx="1419120" cy="5914080"/>
          </a:xfrm>
          <a:prstGeom prst="bentConnector3">
            <a:avLst>
              <a:gd name="adj1" fmla="val 194722"/>
            </a:avLst>
          </a:prstGeom>
          <a:ln w="19080">
            <a:solidFill>
              <a:srgbClr val="0000ff"/>
            </a:solidFill>
            <a:miter/>
            <a:tailEnd len="med" type="triangle" w="med"/>
          </a:ln>
        </p:spPr>
      </p:cxnSp>
      <p:cxnSp>
        <p:nvCxnSpPr>
          <p:cNvPr id="44" name=""/>
          <p:cNvCxnSpPr>
            <a:stCxn id="42" idx="2"/>
            <a:endCxn id="41" idx="1"/>
          </p:cNvCxnSpPr>
          <p:nvPr/>
        </p:nvCxnSpPr>
        <p:spPr>
          <a:xfrm flipV="1" rot="16200000">
            <a:off x="4129560" y="-8280"/>
            <a:ext cx="1092960" cy="6121440"/>
          </a:xfrm>
          <a:prstGeom prst="curvedConnector4">
            <a:avLst>
              <a:gd name="adj1" fmla="val -593"/>
              <a:gd name="adj2" fmla="val 114273"/>
            </a:avLst>
          </a:prstGeom>
          <a:ln w="19080">
            <a:solidFill>
              <a:srgbClr val="ff0066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3-09-30T23:21:53Z</dcterms:created>
  <dc:creator>Regina Henschel</dc:creator>
  <dc:description/>
  <dc:language>en-US</dc:language>
  <cp:lastModifiedBy>Regina Henschel</cp:lastModifiedBy>
  <dcterms:modified xsi:type="dcterms:W3CDTF">2023-09-30T23:24:50Z</dcterms:modified>
  <cp:revision>1</cp:revision>
  <dc:subject/>
  <dc:title>Kein Folientitel</dc:title>
</cp:coreProperties>
</file>