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8537264"/>
        <c:axId val="44886883"/>
      </c:barChart>
      <c:catAx>
        <c:axId val="3853726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886883"/>
        <c:crosses val="autoZero"/>
        <c:auto val="1"/>
        <c:lblAlgn val="ctr"/>
        <c:lblOffset val="100"/>
        <c:noMultiLvlLbl val="0"/>
      </c:catAx>
      <c:valAx>
        <c:axId val="4488688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53726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52ACF-49C6-4077-AB90-0BD1F9F9F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FDC97-171D-4145-954C-263F8E23C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A83AC-1CC7-4044-ADFF-4824BD9CC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D994C-85D8-40CA-B559-446CF1159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96D2D-053F-4BE1-9600-5D0C75C2A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A52EA-432C-4AFE-975C-6DFA0EA27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0D514-0576-4E53-97EE-02461CE65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46EE7-C40D-489D-8C19-83294A222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13143-814E-4340-B62D-428FF8607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5DD66-46D1-4ABC-A144-83D4AD401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26141-96B1-4FBA-8ECD-FABC4CA85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E590B-B606-4E6E-8591-6B8056B77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6ABE0D-9B22-4BBC-85D6-21196C1219F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