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829043"/>
        <c:axId val="21633934"/>
      </c:barChart>
      <c:catAx>
        <c:axId val="32829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33934"/>
        <c:crosses val="autoZero"/>
        <c:auto val="1"/>
        <c:lblAlgn val="ctr"/>
        <c:lblOffset val="100"/>
        <c:noMultiLvlLbl val="0"/>
      </c:catAx>
      <c:valAx>
        <c:axId val="21633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29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F6B9-0807-43CA-BC04-38FF53BF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099-39B6-445C-A60F-C7C63739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009-4720-4EA7-B4B8-BF2769D7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50C-DA34-4F31-8A6E-563759546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78E-0A05-452C-B8E7-7BE3ACE7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8E1-3390-4F96-A89E-6B5B6D7B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CF1-30CE-4066-A9A8-2863E3B1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ECD-CD13-4771-806F-76E2EA1F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BE0-42C1-405F-B991-17B1527D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5AF-1486-4BE3-864E-58560B9C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032-6883-4E5A-B966-5B53E79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E30-B06E-4883-B861-696719AD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D94E8-B734-49DE-A367-AF2B89CA20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