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76864"/>
        <c:axId val="54754972"/>
      </c:barChart>
      <c:catAx>
        <c:axId val="60376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54972"/>
        <c:crosses val="autoZero"/>
        <c:auto val="1"/>
        <c:lblAlgn val="ctr"/>
        <c:lblOffset val="100"/>
        <c:noMultiLvlLbl val="0"/>
      </c:catAx>
      <c:valAx>
        <c:axId val="54754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6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478-A42C-4944-B222-028EED8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70E-E963-422E-900F-E83374E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128-CA08-4954-98CD-031F4413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A79-43F6-44CB-8EE0-44623B47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176-7E8D-4010-8A2E-D2EA511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6E6-3C31-4955-84D6-D37F9E1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9CE-A3DC-4DF8-B7DF-F6469E0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418-9221-46D8-BC76-371D62BB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F1F-0A28-48E6-B51E-47A5E0C7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6CA-43A8-4C92-9020-00F7798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2B3-7776-49E1-A018-1CFB183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71B-E89F-46C7-BC7F-C33DDA8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6B52-6B73-4449-95A8-88B50E9A5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