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68236"/>
        <c:axId val="85296050"/>
      </c:barChart>
      <c:catAx>
        <c:axId val="32868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6050"/>
        <c:crosses val="autoZero"/>
        <c:auto val="1"/>
        <c:lblAlgn val="ctr"/>
        <c:lblOffset val="100"/>
        <c:noMultiLvlLbl val="0"/>
      </c:catAx>
      <c:valAx>
        <c:axId val="85296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68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BD7-78DE-42DC-98AC-2FE6D620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61A-C5B0-43C1-A4C0-C3A3B816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D62-695D-47CF-A467-F4DE440D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0C8-A721-405D-AF5C-FA879A1F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DEE-F07F-48FD-8C66-1D792FA8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18D-C1C9-4798-8714-F12D3F81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E61-EB46-4498-9E70-9138997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270-39D6-44C5-A22D-1A2F1C2F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C6B-B568-43F4-8106-8AEF9AEF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736-01FB-4F7C-9974-75673FBF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910-F73D-4350-AF7C-6360800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022-4FBD-4315-9828-1BEE113A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9C168-B1BE-4546-A79C-2C3C7F392E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