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822168"/>
        <c:axId val="83855494"/>
      </c:barChart>
      <c:catAx>
        <c:axId val="882216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855494"/>
        <c:crosses val="autoZero"/>
        <c:auto val="1"/>
        <c:lblAlgn val="ctr"/>
        <c:lblOffset val="100"/>
        <c:noMultiLvlLbl val="0"/>
      </c:catAx>
      <c:valAx>
        <c:axId val="8385549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82216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E4CA3-83CF-4D97-BF82-974A66644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550B6-5501-40BB-BA4E-725D60BA1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78583-7248-4086-BC1B-3A2AF43D3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EEAB7-9D1B-4135-ABE6-C9D98B69A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DA2BE-3B40-4BB4-A26A-C75DFF6DE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846E5-D92C-4F4F-B051-2096BD2CB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60A2B-FF8D-4F44-982F-A28115958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FD7F2-68C6-4BDD-90FF-98FA42246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7C085-1853-4461-BA8D-9C42D228D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36A94-5997-46FB-A926-5AE5FE529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2DC53-18C1-4046-85F5-020961B01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7B78E-65FA-46A1-ABEE-DE67C607A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578A4F-CB60-46A9-BD88-CA706EB16DB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