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66503"/>
        <c:axId val="31455629"/>
      </c:barChart>
      <c:catAx>
        <c:axId val="27366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55629"/>
        <c:crosses val="autoZero"/>
        <c:auto val="1"/>
        <c:lblAlgn val="ctr"/>
        <c:lblOffset val="100"/>
        <c:noMultiLvlLbl val="0"/>
      </c:catAx>
      <c:valAx>
        <c:axId val="31455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66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D418-66A6-4C9F-AE7A-74AEEEB9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238D-548E-49D6-800A-E8ADE697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D4B6-D989-40DF-9EEB-DCE74EC6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034-50D3-4CD5-B58D-97AA80541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1A71-B058-431A-92E9-7CE93931B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6C9A-AB5D-46B2-84E6-DD2BB8EC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CCE-A65B-4678-8F76-9FA9122E8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0D9D-9B26-40C0-B72D-0593DEB8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DC0D-2A71-413E-9718-4E518E35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3AF-0961-4AE5-A094-CC0ADA8A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85C-EEC3-49D5-A145-7EE187B2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96C-8D25-4488-B123-D8A9425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66E10-9003-4A50-8FE3-4B880BCB7F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