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9332"/>
        <c:axId val="38241022"/>
      </c:barChart>
      <c:catAx>
        <c:axId val="3519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41022"/>
        <c:crosses val="autoZero"/>
        <c:auto val="1"/>
        <c:lblAlgn val="ctr"/>
        <c:lblOffset val="100"/>
        <c:noMultiLvlLbl val="0"/>
      </c:catAx>
      <c:valAx>
        <c:axId val="38241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9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C831-E90C-4438-95C9-271C4074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C364-2539-456E-A81A-A25526AD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39E-ABBB-44E2-8074-F91F8756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FB7-A283-4F23-902B-086294AF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BF7-ACE3-4C1F-9712-F207FBF5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8AD-5B0C-4A3F-B1EB-52139582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6EC8-2980-49EC-A3CF-E0DD83BE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450-4417-4E55-B9DD-FF28EB52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98C-3A4D-45E4-B59D-16E79F01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26F-5A07-4B97-A96E-E8846D27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8BD7-AF98-4435-A81C-F7BA83F7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7DD-E85C-46A1-9E51-72B1FD0E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4D2CD-695B-4B70-89CD-9AFDCBD7F7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